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B95B-BB75-4472-A0E8-335B0F537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33D4-70A0-401B-B4F0-3D1034746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B593-8DF1-4652-BDAD-ACDD7BDC2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72E6-DE48-4E57-90BA-7E6F791AF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7740-6B19-4BB7-9F59-7739DCC8E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7627-6431-46C0-9FD3-B1A697FC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B315-F458-4D09-BA5E-12E289BC2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8C42-2928-447A-ADE5-5C026EA3F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275C-0D74-4C43-8588-845E7BDD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F03F-9C4A-4162-9012-74198237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2C7B-94DB-4644-841A-DC7BB2A8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FF45-154A-4361-8C94-8E7CAA6B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3C9BA-48F4-49BA-8D9D-74CFA57D72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601200" cy="689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601200" cy="689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5562720" y="5267160"/>
          <a:ext cx="3335040" cy="159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5267160"/>
                    <a:ext cx="3335040" cy="15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685800" y="228600"/>
            <a:ext cx="868680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Verdana"/>
              </a:rPr>
              <a:t>Dabas liegums “Gudenieki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</a:rPr>
              <a:t>Zemes vienības un to kadastra numu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8534160" y="4191120"/>
            <a:ext cx="152280" cy="457200"/>
          </a:xfrm>
          <a:prstGeom prst="line">
            <a:avLst/>
          </a:prstGeom>
          <a:ln w="2844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5943600"/>
            <a:ext cx="312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MK Noteikumos Nr212 (1999) noteiktā dabas lieguma “Gudenieki”robež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095880"/>
            <a:ext cx="152640" cy="0"/>
          </a:xfrm>
          <a:prstGeom prst="line">
            <a:avLst/>
          </a:prstGeom>
          <a:ln w="1908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30T15:51:24Z</dcterms:created>
  <dc:creator>Loreta Urtane</dc:creator>
  <dc:description/>
  <dc:language>en-US</dc:language>
  <cp:lastModifiedBy>astrida</cp:lastModifiedBy>
  <cp:lastPrinted>2001-08-15T07:37:06Z</cp:lastPrinted>
  <dcterms:modified xsi:type="dcterms:W3CDTF">2001-08-15T07:39:56Z</dcterms:modified>
  <cp:revision>7</cp:revision>
  <dc:subject/>
  <dc:title>No Slide Title</dc:title>
</cp:coreProperties>
</file>