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975-6D7B-4078-9A64-62E92813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DC8-7800-4A40-8C57-549A41DC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64AE-C5D5-45ED-B3CC-BD915920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496F-4142-47B0-BE07-4D963DD9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852A-CF27-4C0B-BD2A-561A3677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C8FB-4E54-4DC2-8528-344A73AE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4EAE-B043-43E4-BE51-7C2E10D8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D56-A498-4442-AD91-1F732AAF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8381-C369-45E3-91AC-454E13C0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A92-0B70-4BB2-B9F9-7A84F128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35F2-C9F2-457D-B30F-9CB09435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DC3A-A8AF-49C3-94EA-EAB356C5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E468-4696-4DB5-972E-E12857B1B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601200" cy="68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601200" cy="68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562720" y="5267160"/>
          <a:ext cx="3335040" cy="15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5267160"/>
                    <a:ext cx="333504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85800" y="228600"/>
            <a:ext cx="86868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Verdana"/>
              </a:rPr>
              <a:t>Dabas liegums “Gudeniek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Zemes vienības un to kadastra num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8534160" y="4191120"/>
            <a:ext cx="152280" cy="45720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594360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K Noteikumos Nr212 (1999) noteiktā dabas lieguma “Gudenieki”robež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095880"/>
            <a:ext cx="152640" cy="0"/>
          </a:xfrm>
          <a:prstGeom prst="line">
            <a:avLst/>
          </a:prstGeom>
          <a:ln w="190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0T15:51:24Z</dcterms:created>
  <dc:creator>Loreta Urtane</dc:creator>
  <dc:description/>
  <dc:language>en-US</dc:language>
  <cp:lastModifiedBy>astrida</cp:lastModifiedBy>
  <cp:lastPrinted>2001-08-15T07:37:06Z</cp:lastPrinted>
  <dcterms:modified xsi:type="dcterms:W3CDTF">2001-08-15T07:39:56Z</dcterms:modified>
  <cp:revision>7</cp:revision>
  <dc:subject/>
  <dc:title>No Slide Title</dc:title>
</cp:coreProperties>
</file>